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39E1-211C-4D53-9347-1A450379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B2E-1043-4B60-8287-5328118A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16C-2DD3-47DC-9CF8-EE30E8D7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04F-EE4F-4502-8B28-4B051433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6892-04A6-4F3D-98A3-C132E1D6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B40-4556-4F1E-BBDB-5F3C1FC6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7693-786B-4293-B74B-6EE05DD4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232B-C73D-49AF-9C5C-20AF1568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C376-31EA-4043-9954-F54D1485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1CA-8379-4AFC-8569-9AFAA66E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EF6A-3D55-4BF1-BEDD-1AB513CF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ED3-6B11-426D-A6DB-638A865C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DDEF-D3A5-4C7E-A0D5-7F2DC9600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1295280"/>
            <a:ext cx="60958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nformal Roman"/>
              </a:rPr>
              <a:t>Recycle Water Bottles!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nformal Roman"/>
              <a:ea typeface="Informal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531120" y="4421160"/>
            <a:ext cx="1357200" cy="1814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1600200" cy="1390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371600" y="4038480"/>
            <a:ext cx="31240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5:43:08Z</dcterms:created>
  <dc:creator>mes5c</dc:creator>
  <dc:description/>
  <dc:language>en-US</dc:language>
  <cp:lastModifiedBy>mes5c</cp:lastModifiedBy>
  <dcterms:modified xsi:type="dcterms:W3CDTF">2011-02-03T13:16:17Z</dcterms:modified>
  <cp:revision>1</cp:revision>
  <dc:subject/>
  <dc:title>Slide 1</dc:title>
</cp:coreProperties>
</file>